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D29-F79A-4248-86F6-87101978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D77-776E-4DB1-A084-D09EA410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E69-A016-44AC-A8BD-E037401C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101-FB3B-4F9A-BD2A-4EB81858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FA9-8A50-4CB4-9CF6-8616AD02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EC2-BC57-456E-A30F-03CF4A9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70B-C0DF-464D-991C-03F12809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67A-D6E6-44A5-BA6C-5A396037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080-DE61-4B12-9D9B-1714D623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C2A-40BE-4D0E-996F-FA5FB41B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5A8-B0ED-44E5-B798-F4D4EAD5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C49-CFA4-4A56-BF3D-E7B2AF0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03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40DC-573C-42F2-AF01-8BE11E254108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br>
              <a:rPr sz="1000"/>
            </a:br>
            <a:r>
              <a:rPr b="0" lang="hr-HR" sz="28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2880" y="485784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e4b038"/>
                </a:solidFill>
                <a:latin typeface="Calibri"/>
              </a:rPr>
              <a:t>dr Radoje Žug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e4b038"/>
                </a:solidFill>
                <a:latin typeface="Calibri"/>
              </a:rPr>
              <a:t>ministar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500120" y="2786040"/>
            <a:ext cx="64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4b038"/>
                </a:solidFill>
                <a:latin typeface="Calibri"/>
              </a:rPr>
              <a:t>Konferencija za medi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4b038"/>
                </a:solidFill>
                <a:latin typeface="Calibri"/>
              </a:rPr>
              <a:t>19. maj 2013. god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93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500040" y="1357200"/>
            <a:ext cx="8643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mjernice su pripremljene u skladu sa novim Zakonom o budžetu i fiskalnoj odgovornost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85840" y="2428920"/>
            <a:ext cx="84963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Srednjeročni budžetski okvi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Definiše se maksimalan nivo budžetske potrošnje za period od 3 godine, pri čemu je limit za narednu godinu obavezujući i predstavlja osnovu za godišnji Zakon o budžetu, dok su limiti za naredne dvije indikativn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Numerička fiskalna pravi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Budžetski deficit ne smije preći 3% BDP-a, osim u slučaju finansiranja razvojnih projeka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Javni dug ne smije preći 60% BDP-a, osim u slučaju finansiranja razvojnih projeka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99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57120" y="1484280"/>
            <a:ext cx="8786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4. Smjernice sadrže: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2205000"/>
            <a:ext cx="9144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Limiti potrošnje </a:t>
            </a: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maksimalan iznos potrošnje koji je obavezujući za prvu (2015) i indikativan za naredne dvije godine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Stopa rasta limita: za tekući i fondove mora biti manja od realne stope rasta, a za kapitalni i rezervu, ne može biti veća od nominalne stope rasta BDP-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Fiskalni kriterijum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1. Ostvarivanje primarnog suficita (budžetski rezultat umanjen za kamate) pokazatelj je kvaliteta upravljanja javnim finansijama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2. Tekući izdaci i transferi moraju biti manji od tekućih prihoda i donaci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3. Odgovorna politika zaduživanja, uz oprezno izdavanje garanci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56880" y="428760"/>
            <a:ext cx="72867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19. maj 2014.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642960" y="35712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143000" y="2143080"/>
            <a:ext cx="71438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ttps://www.facebook.com/pages/Ministarstvo-finansij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GetImage.jpg"/>
          <p:cNvPicPr/>
          <p:nvPr/>
        </p:nvPicPr>
        <p:blipFill>
          <a:blip r:embed="rId2"/>
          <a:stretch/>
        </p:blipFill>
        <p:spPr>
          <a:xfrm>
            <a:off x="1214280" y="2214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GetImage (1).jpg"/>
          <p:cNvPicPr/>
          <p:nvPr/>
        </p:nvPicPr>
        <p:blipFill>
          <a:blip r:embed="rId3"/>
          <a:stretch/>
        </p:blipFill>
        <p:spPr>
          <a:xfrm>
            <a:off x="1214280" y="3071880"/>
            <a:ext cx="571680" cy="561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1928880" y="2857680"/>
            <a:ext cx="6643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:/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witter.com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%21/MiniFin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youtube.com/user/MinFinansijaCrneG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minifin.wordpress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3" descr="GetImage (2).jpg"/>
          <p:cNvPicPr/>
          <p:nvPr/>
        </p:nvPicPr>
        <p:blipFill>
          <a:blip r:embed="rId4"/>
          <a:stretch/>
        </p:blipFill>
        <p:spPr>
          <a:xfrm>
            <a:off x="1214280" y="3929040"/>
            <a:ext cx="571680" cy="50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GetImage (3).jpg"/>
          <p:cNvPicPr/>
          <p:nvPr/>
        </p:nvPicPr>
        <p:blipFill>
          <a:blip r:embed="rId5"/>
          <a:stretch/>
        </p:blipFill>
        <p:spPr>
          <a:xfrm>
            <a:off x="1214280" y="4714920"/>
            <a:ext cx="57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57120" y="1643040"/>
            <a:ext cx="878688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mjernice makroeokonomske i fiskalne politike 2014-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Preliminarni makroekonomski i fiskalni podaci za 201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Srednjoročni ciljevi ekonomske politik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Ažurirane makroekonomske i fiskalne projekcije za period 2014-2017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Pripremljene u skladu sa novim Zakonom o budžetu i fiskalnoj odgovorn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Državni dug i obvezn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142920" y="1571760"/>
            <a:ext cx="885816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Preliminarni makroekonomski i fiskalni podaci za 201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Stopa realnog rasta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DP-a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+</a:t>
            </a:r>
            <a:r>
              <a:rPr b="1" lang="hr-HR" sz="2400" spc="-1" strike="noStrike">
                <a:solidFill>
                  <a:srgbClr val="ffff00"/>
                </a:solidFill>
                <a:latin typeface="Calibri"/>
              </a:rPr>
              <a:t> 3,5% 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(3.335,9 mil. €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Calibri"/>
              </a:rPr>
              <a:t>Glavni izvori rast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uriz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m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nergetik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ndustrijsk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proizvodn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 Gr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ađevinarstv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ihodi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d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+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6,9 %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u odnosu na plan 201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+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10,3%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u odnosu na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Deficit budžeta iznosio j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3,65% BDP-a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sključujući 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one-off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događaj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laćan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garancij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,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Budžet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 2013.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bi bilježi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deficit od oko 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-0.4% BDP-a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214200" y="1643040"/>
            <a:ext cx="864396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2. Srednjoročni ciljevi ekonom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Zadržati ostvareni napredak u vođenju fiskalne politik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Smanjiti nivo javnog duga i troškove njegovog finansiran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Nastaviti proces fiskalne konsolidacij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Proširiti poreski kapacite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Nastaviti sa sprovođenjem strukturnih reformi i unapređenjem poslovnog ambijen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Valorizovati prirodne resurse, kroz realizaciju investicionih projeka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Održati stabilnost bankarskog siste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Stvoriti pretpostavke za dinamičniji privredni rast i poboljšanje životnog standarda građan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357120" y="157176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3.  Ažurirane makroekonomske i fiskalne proje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0040" y="2500200"/>
          <a:ext cx="8143920" cy="2346480"/>
        </p:xfrm>
        <a:graphic>
          <a:graphicData uri="http://schemas.openxmlformats.org/drawingml/2006/table">
            <a:tbl>
              <a:tblPr/>
              <a:tblGrid>
                <a:gridCol w="3214800"/>
                <a:gridCol w="857160"/>
                <a:gridCol w="785880"/>
                <a:gridCol w="857160"/>
                <a:gridCol w="819000"/>
                <a:gridCol w="824040"/>
                <a:gridCol w="785880"/>
              </a:tblGrid>
              <a:tr h="33552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ekonomske projekcije, 2014-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inalni BDP u mil.€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6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inalni r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ni r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aci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Oval 11"/>
          <p:cNvSpPr/>
          <p:nvPr/>
        </p:nvSpPr>
        <p:spPr>
          <a:xfrm>
            <a:off x="5643720" y="4143240"/>
            <a:ext cx="3143160" cy="428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357120" y="142884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4200" y="2143080"/>
          <a:ext cx="8715600" cy="3857760"/>
        </p:xfrm>
        <a:graphic>
          <a:graphicData uri="http://schemas.openxmlformats.org/drawingml/2006/table">
            <a:tbl>
              <a:tblPr/>
              <a:tblGrid>
                <a:gridCol w="2157480"/>
                <a:gridCol w="936720"/>
                <a:gridCol w="741240"/>
                <a:gridCol w="879480"/>
                <a:gridCol w="857160"/>
                <a:gridCol w="955800"/>
                <a:gridCol w="706320"/>
                <a:gridCol w="870120"/>
                <a:gridCol w="611280"/>
              </a:tblGrid>
              <a:tr h="378000">
                <a:tc rowSpan="2"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ž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ni pri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6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9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9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2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2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5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8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pitalni budž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t/ Defic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ni defic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Oval 8"/>
          <p:cNvSpPr/>
          <p:nvPr/>
        </p:nvSpPr>
        <p:spPr>
          <a:xfrm>
            <a:off x="2571840" y="5214960"/>
            <a:ext cx="1571400" cy="5065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8600"/>
            </a:br>
            <a:br>
              <a:rPr sz="22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Već tekuće 2014. godine, ukoliko ne bude vanrednih i nepredviđenih troškova, 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</a:rPr>
              <a:t>ostvarićemo primarni budžetski suficit od 1,3% BDP-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sljed rasta naplate prihoda, uz sprovođenje mjera štednje, procjenjuje se da će deficit budžeta u 2014. iznositi 26,4 miliona eura li 0,75% BDP-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357120" y="185724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57120" y="128592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cenario sa autopu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42920" y="2357280"/>
          <a:ext cx="8858160" cy="4025880"/>
        </p:xfrm>
        <a:graphic>
          <a:graphicData uri="http://schemas.openxmlformats.org/drawingml/2006/table">
            <a:tbl>
              <a:tblPr/>
              <a:tblGrid>
                <a:gridCol w="1596960"/>
                <a:gridCol w="1017720"/>
                <a:gridCol w="814320"/>
                <a:gridCol w="1000080"/>
                <a:gridCol w="857160"/>
                <a:gridCol w="928800"/>
                <a:gridCol w="785880"/>
                <a:gridCol w="1000080"/>
                <a:gridCol w="857160"/>
              </a:tblGrid>
              <a:tr h="605160">
                <a:tc rowSpan="2"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ž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ni priho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6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39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99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72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1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67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93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9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3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pitalni budž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6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t/ 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1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54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91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21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87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28760" y="30002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U slučaju početka izgradnje autoputa u 2014, na osnovu dostupnih informacija, projektovano je da će deficit centralnog budžeta biti oko 1,5% u tekućoj i preko 4% BDP-a u narednim godinama, s tim da će kapitalni budžet iznositi 6-10% BDP-a u svakoj godi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57120" y="157176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cenario sa autopu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1:46:13Z</dcterms:created>
  <dc:creator>Milos Popovic</dc:creator>
  <dc:description/>
  <dc:language>en-US</dc:language>
  <cp:lastModifiedBy>mf</cp:lastModifiedBy>
  <dcterms:modified xsi:type="dcterms:W3CDTF">2014-05-19T08:35:44Z</dcterms:modified>
  <cp:revision>130</cp:revision>
  <dc:subject/>
  <dc:title>Ministarstvo finansija</dc:title>
</cp:coreProperties>
</file>